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12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13.jpeg" ContentType="image/jpeg"/>
  <Override PartName="/ppt/media/image22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camera.wav" ContentType="audio/x-wav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489-1D14-4515-8999-7B726AD7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1BC-7DEB-48DF-B4E2-83B59A9F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CAA-FA8C-4A06-8B92-A3073D00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41F-BA97-4A32-910D-6CCC6693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7550-0AAA-4431-8948-09500597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3B24-FFEC-488C-A818-F2C4F9CA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5B65-4A98-407A-8803-A87DCAE4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3DF6-F611-42E6-8ADC-20046023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5721-ABA4-4A92-A528-EAAAEDC8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7D55-24D2-4BC4-B1FB-D1243737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B4D0-CFB2-44B4-A87C-BF53D029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FF4-0FAA-4D29-9A39-C8F7D0DD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3260-BAD2-42E3-808B-16172166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1311-CE9F-4CCB-9A01-F076B3AC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1F2B-B789-4004-A6FE-94A504BC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8ED6-BAF4-4699-AB8A-F09D6454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96BD-E361-404B-9F5C-0FACDBCC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C5A3-76D0-40FE-AE7B-C2261DA9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27E-BA67-4777-AFB2-A609F6C0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C4B-88C4-4FCA-A745-C0925468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2CC-D26C-4D67-B514-AB7ECEE9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D10-7B33-4EFC-981B-1741C01A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AB9-AFAC-40A1-AC68-16D110FF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D47-7091-4D92-A51B-DBA42409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4C80-3191-4B49-9E53-8D95828DEF1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FAE3-4CC3-4A8D-A1F5-7350151D46E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palomeich.blogia.com/upload/20070121223551-devoir.jpg&amp;imgrefurl=http://palomeich.blogia.com/temas/varios.php&amp;usg=__6MjAoEW9wM8Kz9XRHzdQOFbdVQc=&amp;h=455&amp;w=375&amp;sz=26&amp;hl=es&amp;start=6&amp;um=1&amp;tbnid=m40DUSoqhmQ1kM:&amp;tbnh=128&amp;tbnw=105&amp;prev=/images%3Fq%3Dalumnos%2Bhaciendo%2Bexamen%26hl%3Des%26rlz%3D1W1ADSA_es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exo%20El%20ruido%20mata.doc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alvarez.files.wordpress.com/2007/10/ruido.jpg&amp;imgrefurl=http://walvarez.wordpress.com/2007/10/11/ruido/&amp;usg=__9PwayCR48NMeQ-rCrO1qpUE5tsA=&amp;h=1279&amp;w=1652&amp;sz=417&amp;hl=es&amp;start=1&amp;tbnid=jP_H6Q8-j4fKrM:&amp;tbnh=116&amp;tbnw=150&amp;prev=/images%3Fq%3Druido%26imgsz%3Dl%26gbv%3D2%26hl%3Des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826920" y="981000"/>
            <a:ext cx="7561440" cy="27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omentario crítico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e las pruebas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e Selectividad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Picture 8" descr="20070121223551-devoi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005360"/>
            <a:ext cx="1354320" cy="165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3300"/>
                </a:solidFill>
                <a:latin typeface="Arial"/>
              </a:rPr>
              <a:t>Modelos de estructu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35798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De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In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Encuadr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Enumer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Secuen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Comparación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contras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Problema/solu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Tormenta de idea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219640" y="1557360"/>
            <a:ext cx="3495600" cy="1465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Muchos autores, especialmente los más academicistas, componen sus textos según uno de estos modelos ya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148360" y="3573360"/>
            <a:ext cx="37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Verdana"/>
                <a:ea typeface="Arial"/>
              </a:rPr>
              <a:t>Las diferencias entre ellos a veces no son obje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5219640" y="4365720"/>
            <a:ext cx="3457800" cy="161856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Varios modelos de estructura podrían ser aplicables a un mismo texto, siempre que se justifique razonad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9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3300"/>
                </a:solidFill>
                <a:latin typeface="Arial"/>
              </a:rPr>
              <a:t>Deduc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523880" y="2590920"/>
            <a:ext cx="6096240" cy="1523880"/>
          </a:xfrm>
          <a:prstGeom prst="bevel">
            <a:avLst>
              <a:gd name="adj" fmla="val 12500"/>
            </a:avLst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Verdana"/>
                <a:ea typeface="Arial"/>
              </a:rPr>
              <a:t>Idea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5257800" y="4267080"/>
            <a:ext cx="1447920" cy="1752840"/>
            <a:chOff x="5257800" y="4267080"/>
            <a:chExt cx="1447920" cy="1752840"/>
          </a:xfrm>
        </p:grpSpPr>
        <p:sp>
          <p:nvSpPr>
            <p:cNvPr id="122" name="AutoShape 5"/>
            <p:cNvSpPr/>
            <p:nvPr/>
          </p:nvSpPr>
          <p:spPr>
            <a:xfrm flipH="1">
              <a:off x="5257800" y="4267080"/>
              <a:ext cx="1447920" cy="1752840"/>
            </a:xfrm>
            <a:prstGeom prst="parallelogram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 rot="15351600">
              <a:off x="5381280" y="495468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6633"/>
                  </a:solidFill>
                  <a:latin typeface="Verdana"/>
                  <a:ea typeface="Arial"/>
                </a:rPr>
                <a:t>Caso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7"/>
          <p:cNvGrpSpPr/>
          <p:nvPr/>
        </p:nvGrpSpPr>
        <p:grpSpPr>
          <a:xfrm>
            <a:off x="6553080" y="4267080"/>
            <a:ext cx="1447920" cy="1752840"/>
            <a:chOff x="6553080" y="4267080"/>
            <a:chExt cx="1447920" cy="1752840"/>
          </a:xfrm>
        </p:grpSpPr>
        <p:sp>
          <p:nvSpPr>
            <p:cNvPr id="125" name="AutoShape 8"/>
            <p:cNvSpPr/>
            <p:nvPr/>
          </p:nvSpPr>
          <p:spPr>
            <a:xfrm flipH="1">
              <a:off x="6553080" y="4267080"/>
              <a:ext cx="1447920" cy="1752840"/>
            </a:xfrm>
            <a:prstGeom prst="parallelogram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"/>
            <p:cNvSpPr/>
            <p:nvPr/>
          </p:nvSpPr>
          <p:spPr>
            <a:xfrm rot="15351600">
              <a:off x="6676560" y="495468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6633"/>
                  </a:solidFill>
                  <a:latin typeface="Verdana"/>
                  <a:ea typeface="Arial"/>
                </a:rPr>
                <a:t>Caso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0"/>
          <p:cNvGrpSpPr/>
          <p:nvPr/>
        </p:nvGrpSpPr>
        <p:grpSpPr>
          <a:xfrm>
            <a:off x="2438280" y="4267080"/>
            <a:ext cx="1447920" cy="1752840"/>
            <a:chOff x="2438280" y="4267080"/>
            <a:chExt cx="1447920" cy="1752840"/>
          </a:xfrm>
        </p:grpSpPr>
        <p:sp>
          <p:nvSpPr>
            <p:cNvPr id="128" name="AutoShape 11"/>
            <p:cNvSpPr/>
            <p:nvPr/>
          </p:nvSpPr>
          <p:spPr>
            <a:xfrm>
              <a:off x="2438280" y="4267080"/>
              <a:ext cx="1447920" cy="1752840"/>
            </a:xfrm>
            <a:prstGeom prst="parallelogram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 rot="16954200">
              <a:off x="2561760" y="495504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6633"/>
                  </a:solidFill>
                  <a:latin typeface="Verdana"/>
                  <a:ea typeface="Arial"/>
                </a:rPr>
                <a:t>Caso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3"/>
          <p:cNvGrpSpPr/>
          <p:nvPr/>
        </p:nvGrpSpPr>
        <p:grpSpPr>
          <a:xfrm>
            <a:off x="1143000" y="4267080"/>
            <a:ext cx="1447920" cy="1752840"/>
            <a:chOff x="1143000" y="4267080"/>
            <a:chExt cx="1447920" cy="1752840"/>
          </a:xfrm>
        </p:grpSpPr>
        <p:sp>
          <p:nvSpPr>
            <p:cNvPr id="131" name="AutoShape 14"/>
            <p:cNvSpPr/>
            <p:nvPr/>
          </p:nvSpPr>
          <p:spPr>
            <a:xfrm>
              <a:off x="1143000" y="4267080"/>
              <a:ext cx="1447920" cy="1752840"/>
            </a:xfrm>
            <a:prstGeom prst="parallelogram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 rot="16954200">
              <a:off x="1265040" y="495504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6633"/>
                  </a:solidFill>
                  <a:latin typeface="Verdana"/>
                  <a:ea typeface="Arial"/>
                </a:rPr>
                <a:t>Caso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6"/>
          <p:cNvGrpSpPr/>
          <p:nvPr/>
        </p:nvGrpSpPr>
        <p:grpSpPr>
          <a:xfrm>
            <a:off x="3733920" y="4266720"/>
            <a:ext cx="1676160" cy="1752840"/>
            <a:chOff x="3733920" y="4266720"/>
            <a:chExt cx="1676160" cy="1752840"/>
          </a:xfrm>
        </p:grpSpPr>
        <p:sp>
          <p:nvSpPr>
            <p:cNvPr id="134" name="AutoShape 17"/>
            <p:cNvSpPr/>
            <p:nvPr/>
          </p:nvSpPr>
          <p:spPr>
            <a:xfrm flipV="1">
              <a:off x="3733920" y="4266360"/>
              <a:ext cx="1676160" cy="1752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8"/>
            <p:cNvSpPr/>
            <p:nvPr/>
          </p:nvSpPr>
          <p:spPr>
            <a:xfrm rot="16200000">
              <a:off x="4009680" y="495360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6633"/>
                  </a:solidFill>
                  <a:latin typeface="Verdana"/>
                  <a:ea typeface="Arial"/>
                </a:rPr>
                <a:t>Caso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  <p:sndAc>
      <p:stSnd>
        <p:snd r:embed="rId1" name="camera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3300"/>
                </a:solidFill>
                <a:latin typeface="Arial"/>
              </a:rPr>
              <a:t>Induc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1981080" y="4572000"/>
            <a:ext cx="6096240" cy="1523880"/>
          </a:xfrm>
          <a:prstGeom prst="irregularSeal1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Verdana"/>
                <a:ea typeface="Arial"/>
              </a:rPr>
              <a:t>Idea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 rot="3325200">
            <a:off x="1447200" y="2514240"/>
            <a:ext cx="1905120" cy="2210040"/>
          </a:xfrm>
          <a:custGeom>
            <a:avLst/>
            <a:gdLst>
              <a:gd name="textAreaLeft" fmla="*/ 237960 w 1905120"/>
              <a:gd name="textAreaRight" fmla="*/ 1667160 w 1905120"/>
              <a:gd name="textAreaTop" fmla="*/ 552600 h 2210040"/>
              <a:gd name="textAreaBottom" fmla="*/ 16578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Verdana"/>
                <a:ea typeface="Arial"/>
              </a:rPr>
              <a:t>Ejemplo</a:t>
            </a:r>
            <a:br>
              <a:rPr sz="1800"/>
            </a:br>
            <a:r>
              <a:rPr b="1" lang="es-ES" sz="3200" spc="-1" strike="noStrike">
                <a:solidFill>
                  <a:srgbClr val="cc9900"/>
                </a:solidFill>
                <a:latin typeface="Verdana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 rot="5400000">
            <a:off x="3886200" y="1752480"/>
            <a:ext cx="1904760" cy="2209680"/>
          </a:xfrm>
          <a:custGeom>
            <a:avLst/>
            <a:gdLst>
              <a:gd name="textAreaLeft" fmla="*/ 237960 w 1904760"/>
              <a:gd name="textAreaRight" fmla="*/ 1666800 w 1904760"/>
              <a:gd name="textAreaTop" fmla="*/ 552240 h 2209680"/>
              <a:gd name="textAreaBottom" fmla="*/ 16574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7c80"/>
                </a:solidFill>
                <a:latin typeface="Verdana"/>
                <a:ea typeface="Arial"/>
              </a:rPr>
              <a:t>Ejemplo</a:t>
            </a:r>
            <a:br>
              <a:rPr sz="1800"/>
            </a:br>
            <a:r>
              <a:rPr b="1" lang="es-ES" sz="3200" spc="-1" strike="noStrike">
                <a:solidFill>
                  <a:srgbClr val="ff7c8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 flipH="1" rot="18274800">
            <a:off x="6323040" y="2514240"/>
            <a:ext cx="1905120" cy="2209680"/>
          </a:xfrm>
          <a:custGeom>
            <a:avLst/>
            <a:gdLst>
              <a:gd name="textAreaLeft" fmla="*/ 237960 w 1905120"/>
              <a:gd name="textAreaRight" fmla="*/ 1667160 w 1905120"/>
              <a:gd name="textAreaTop" fmla="*/ 552240 h 2209680"/>
              <a:gd name="textAreaBottom" fmla="*/ 16574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Verdana"/>
                <a:ea typeface="Arial"/>
              </a:rPr>
              <a:t>Ejemplo</a:t>
            </a:r>
            <a:br>
              <a:rPr sz="1800"/>
            </a:br>
            <a:r>
              <a:rPr b="1" lang="es-ES" sz="3200" spc="-1" strike="noStrike">
                <a:solidFill>
                  <a:srgbClr val="ff66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3300"/>
                </a:solidFill>
                <a:latin typeface="Arial"/>
              </a:rPr>
              <a:t>Encuadra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1187280" y="1125360"/>
            <a:ext cx="6629400" cy="4496040"/>
          </a:xfrm>
          <a:prstGeom prst="pie">
            <a:avLst/>
          </a:prstGeom>
          <a:solidFill>
            <a:srgbClr val="d8ec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092320" y="1484280"/>
            <a:ext cx="54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f5f5f"/>
                </a:solidFill>
                <a:latin typeface="Verdana"/>
                <a:ea typeface="Arial"/>
              </a:rPr>
              <a:t>Tema, ley, tesis, idea principa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851120" y="4653000"/>
            <a:ext cx="526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f5f5f"/>
                </a:solidFill>
                <a:latin typeface="Verdana"/>
                <a:ea typeface="Arial"/>
              </a:rPr>
              <a:t>Reelaboración del tema, la ley,</a:t>
            </a:r>
            <a:br>
              <a:rPr sz="2800"/>
            </a:br>
            <a:r>
              <a:rPr b="0" lang="es-ES" sz="2800" spc="-1" strike="noStrike">
                <a:solidFill>
                  <a:srgbClr val="5f5f5f"/>
                </a:solidFill>
                <a:latin typeface="Verdana"/>
                <a:ea typeface="Arial"/>
              </a:rPr>
              <a:t>la tesis o la idea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484360" y="3860640"/>
            <a:ext cx="3942000" cy="5097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b812f"/>
                </a:solidFill>
                <a:latin typeface="Verdana"/>
                <a:ea typeface="Arial"/>
              </a:rPr>
              <a:t>Casos concr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484360" y="2852640"/>
            <a:ext cx="3942000" cy="5097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5050"/>
                </a:solidFill>
                <a:latin typeface="Verdana"/>
                <a:ea typeface="Arial"/>
              </a:rPr>
              <a:t>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484360" y="2349360"/>
            <a:ext cx="3942000" cy="5097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ffcc"/>
                </a:solidFill>
                <a:latin typeface="Verdana"/>
                <a:ea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484360" y="3357720"/>
            <a:ext cx="3942000" cy="509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Verdana"/>
                <a:ea typeface="Arial"/>
              </a:rPr>
              <a:t>Hech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1" name="camera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3300"/>
                </a:solidFill>
                <a:latin typeface="Arial"/>
              </a:rPr>
              <a:t>Un ejemplo de estructura de un </a:t>
            </a:r>
            <a:r>
              <a:rPr b="0" lang="es-ES" sz="3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text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0000"/>
                </a:solidFill>
                <a:latin typeface="Arial"/>
              </a:rPr>
              <a:t>I. 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Presentación del problema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(párrafo 1º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.1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Efectos negativos del ruido para la salud (sordera, cefalea, irritabilidad…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.2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Grado de contaminación acústica en Españ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.3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Noticia que origina el comentario sobre el ruido: sentencia del Tribunal constitucional qu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desestima el amparo solicitado por el propietario de un pub de Gijón condenado po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molestar a sus vecinos con el ruido a altas hor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0000"/>
                </a:solidFill>
                <a:latin typeface="Arial"/>
              </a:rPr>
              <a:t>II.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Solución: nacimiento de la Ley del Ruido 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(párrafo 2º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I.1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Causa: retraso legislativo sobre la materi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I.2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Características de la Le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I.3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Nace en 20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I.4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Obliga a elaborar mapas acú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0000"/>
                </a:solidFill>
                <a:latin typeface="Arial"/>
              </a:rPr>
              <a:t>III.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Necesidad de aplicar la ley (tesis):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(párrafo 3º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II.1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Porque no se está aplicando en la actualidad: siguen existiendo obras ruidosas, camiones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pirotecnia… (argumento de hecho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II.2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Por los efectos positivos de su aplicación: la inteligencia humana es inversament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proporcional a la capacidad para soportar el ruido (Shopenhauer,  argumento d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utorida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3300"/>
                </a:solidFill>
                <a:latin typeface="Arial"/>
              </a:rPr>
              <a:t>Para completar la pregunta de la organización de las ideas del texto comentamos el tipo de estructura: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759040"/>
            <a:ext cx="80136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o se observa, se trata de un texto que presenta un tipo de estructura claramente inductiva, pues comienza con los datos concretos y termina con la enunciación de la tesi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4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4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4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4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47280" y="2491920"/>
            <a:ext cx="5977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Segunda pregunta del examen de Sel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979640" y="1413000"/>
            <a:ext cx="5257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ema y resumen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47280" y="2491920"/>
            <a:ext cx="5977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0, 5 pu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Primera parte de la segunda pregunta del examen de Sel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1979640" y="1413000"/>
            <a:ext cx="5257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ema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75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99"/>
                </a:solidFill>
                <a:latin typeface="Arial"/>
              </a:rPr>
              <a:t>El tema es el resumen del resum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568840" y="2828880"/>
            <a:ext cx="214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33"/>
                </a:solidFill>
                <a:latin typeface="Berlin Sans FB Demi"/>
                <a:ea typeface="Arial"/>
              </a:rPr>
              <a:t>Mens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33"/>
                </a:solidFill>
                <a:latin typeface="Berlin Sans FB Demi"/>
                <a:ea typeface="Arial"/>
              </a:rPr>
              <a:t>Intención</a:t>
            </a:r>
            <a:br>
              <a:rPr sz="3200"/>
            </a:br>
            <a:r>
              <a:rPr b="1" lang="es-ES" sz="3200" spc="-1" strike="noStrike">
                <a:solidFill>
                  <a:srgbClr val="006633"/>
                </a:solidFill>
                <a:latin typeface="Berlin Sans FB Demi"/>
                <a:ea typeface="Arial"/>
              </a:rPr>
              <a:t>del a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4991040" y="2039760"/>
            <a:ext cx="3238560" cy="3238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4"/>
              </a:avLst>
            </a:prstTxWarp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0">
                  <a:noFill/>
                </a:ln>
                <a:solidFill>
                  <a:srgbClr val="000080"/>
                </a:solidFill>
                <a:latin typeface="Arial Black"/>
              </a:rPr>
              <a:t>Resumen del resumen</a:t>
            </a:r>
            <a:endParaRPr b="0" lang="en-US" sz="2200" spc="1" strike="noStrike">
              <a:ln w="0">
                <a:noFill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10960" y="5821200"/>
            <a:ext cx="8744040" cy="45972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Diez o quince palabras deberían ser sufi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6"/>
          <p:cNvGrpSpPr/>
          <p:nvPr/>
        </p:nvGrpSpPr>
        <p:grpSpPr>
          <a:xfrm>
            <a:off x="1808280" y="1941480"/>
            <a:ext cx="1117440" cy="1479240"/>
            <a:chOff x="1808280" y="1941480"/>
            <a:chExt cx="1117440" cy="1479240"/>
          </a:xfrm>
        </p:grpSpPr>
        <p:sp>
          <p:nvSpPr>
            <p:cNvPr id="164" name="AutoShape 7"/>
            <p:cNvSpPr/>
            <p:nvPr/>
          </p:nvSpPr>
          <p:spPr>
            <a:xfrm>
              <a:off x="1808280" y="1941480"/>
              <a:ext cx="1117440" cy="147924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8"/>
            <p:cNvGrpSpPr/>
            <p:nvPr/>
          </p:nvGrpSpPr>
          <p:grpSpPr>
            <a:xfrm>
              <a:off x="2028600" y="2073240"/>
              <a:ext cx="668160" cy="1202760"/>
              <a:chOff x="2028600" y="2073240"/>
              <a:chExt cx="668160" cy="1202760"/>
            </a:xfrm>
          </p:grpSpPr>
          <p:grpSp>
            <p:nvGrpSpPr>
              <p:cNvPr id="166" name="Group 9"/>
              <p:cNvGrpSpPr/>
              <p:nvPr/>
            </p:nvGrpSpPr>
            <p:grpSpPr>
              <a:xfrm>
                <a:off x="2028600" y="2175480"/>
                <a:ext cx="668160" cy="296640"/>
                <a:chOff x="2028600" y="2175480"/>
                <a:chExt cx="668160" cy="296640"/>
              </a:xfrm>
            </p:grpSpPr>
            <p:sp>
              <p:nvSpPr>
                <p:cNvPr id="167" name="Line 10"/>
                <p:cNvSpPr/>
                <p:nvPr/>
              </p:nvSpPr>
              <p:spPr>
                <a:xfrm>
                  <a:off x="2130120" y="2175480"/>
                  <a:ext cx="566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11"/>
                <p:cNvSpPr/>
                <p:nvPr/>
              </p:nvSpPr>
              <p:spPr>
                <a:xfrm>
                  <a:off x="2028600" y="237240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12"/>
                <p:cNvSpPr/>
                <p:nvPr/>
              </p:nvSpPr>
              <p:spPr>
                <a:xfrm>
                  <a:off x="2028600" y="222408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13"/>
                <p:cNvSpPr/>
                <p:nvPr/>
              </p:nvSpPr>
              <p:spPr>
                <a:xfrm>
                  <a:off x="2028600" y="227304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14"/>
                <p:cNvSpPr/>
                <p:nvPr/>
              </p:nvSpPr>
              <p:spPr>
                <a:xfrm>
                  <a:off x="2028600" y="242136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15"/>
                <p:cNvSpPr/>
                <p:nvPr/>
              </p:nvSpPr>
              <p:spPr>
                <a:xfrm>
                  <a:off x="2028600" y="232344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16"/>
                <p:cNvSpPr/>
                <p:nvPr/>
              </p:nvSpPr>
              <p:spPr>
                <a:xfrm>
                  <a:off x="2028600" y="2472120"/>
                  <a:ext cx="52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7"/>
              <p:cNvGrpSpPr/>
              <p:nvPr/>
            </p:nvGrpSpPr>
            <p:grpSpPr>
              <a:xfrm>
                <a:off x="2028600" y="2602440"/>
                <a:ext cx="668160" cy="246240"/>
                <a:chOff x="2028600" y="2602440"/>
                <a:chExt cx="668160" cy="246240"/>
              </a:xfrm>
            </p:grpSpPr>
            <p:sp>
              <p:nvSpPr>
                <p:cNvPr id="175" name="Line 18"/>
                <p:cNvSpPr/>
                <p:nvPr/>
              </p:nvSpPr>
              <p:spPr>
                <a:xfrm>
                  <a:off x="2130120" y="2602440"/>
                  <a:ext cx="566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9"/>
                <p:cNvSpPr/>
                <p:nvPr/>
              </p:nvSpPr>
              <p:spPr>
                <a:xfrm>
                  <a:off x="2028600" y="265104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0"/>
                <p:cNvSpPr/>
                <p:nvPr/>
              </p:nvSpPr>
              <p:spPr>
                <a:xfrm>
                  <a:off x="2028600" y="270000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1"/>
                <p:cNvSpPr/>
                <p:nvPr/>
              </p:nvSpPr>
              <p:spPr>
                <a:xfrm>
                  <a:off x="2028600" y="279792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2"/>
                <p:cNvSpPr/>
                <p:nvPr/>
              </p:nvSpPr>
              <p:spPr>
                <a:xfrm>
                  <a:off x="2028600" y="275040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3"/>
                <p:cNvSpPr/>
                <p:nvPr/>
              </p:nvSpPr>
              <p:spPr>
                <a:xfrm>
                  <a:off x="2028600" y="28486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4"/>
              <p:cNvGrpSpPr/>
              <p:nvPr/>
            </p:nvGrpSpPr>
            <p:grpSpPr>
              <a:xfrm>
                <a:off x="2028600" y="2979360"/>
                <a:ext cx="668160" cy="296640"/>
                <a:chOff x="2028600" y="2979360"/>
                <a:chExt cx="668160" cy="296640"/>
              </a:xfrm>
            </p:grpSpPr>
            <p:sp>
              <p:nvSpPr>
                <p:cNvPr id="182" name="Line 25"/>
                <p:cNvSpPr/>
                <p:nvPr/>
              </p:nvSpPr>
              <p:spPr>
                <a:xfrm>
                  <a:off x="2130120" y="2979360"/>
                  <a:ext cx="566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26"/>
                <p:cNvSpPr/>
                <p:nvPr/>
              </p:nvSpPr>
              <p:spPr>
                <a:xfrm>
                  <a:off x="2028600" y="317628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27"/>
                <p:cNvSpPr/>
                <p:nvPr/>
              </p:nvSpPr>
              <p:spPr>
                <a:xfrm>
                  <a:off x="2028600" y="302796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28"/>
                <p:cNvSpPr/>
                <p:nvPr/>
              </p:nvSpPr>
              <p:spPr>
                <a:xfrm>
                  <a:off x="2028600" y="307692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29"/>
                <p:cNvSpPr/>
                <p:nvPr/>
              </p:nvSpPr>
              <p:spPr>
                <a:xfrm>
                  <a:off x="2028600" y="322524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0"/>
                <p:cNvSpPr/>
                <p:nvPr/>
              </p:nvSpPr>
              <p:spPr>
                <a:xfrm>
                  <a:off x="2028600" y="312732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1"/>
                <p:cNvSpPr/>
                <p:nvPr/>
              </p:nvSpPr>
              <p:spPr>
                <a:xfrm>
                  <a:off x="2028600" y="3276000"/>
                  <a:ext cx="52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Line 32"/>
              <p:cNvSpPr/>
              <p:nvPr/>
            </p:nvSpPr>
            <p:spPr>
              <a:xfrm>
                <a:off x="2028600" y="20732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33"/>
          <p:cNvGrpSpPr/>
          <p:nvPr/>
        </p:nvGrpSpPr>
        <p:grpSpPr>
          <a:xfrm>
            <a:off x="2257560" y="2766960"/>
            <a:ext cx="1117440" cy="1479600"/>
            <a:chOff x="2257560" y="2766960"/>
            <a:chExt cx="1117440" cy="1479600"/>
          </a:xfrm>
        </p:grpSpPr>
        <p:sp>
          <p:nvSpPr>
            <p:cNvPr id="191" name="AutoShape 34"/>
            <p:cNvSpPr/>
            <p:nvPr/>
          </p:nvSpPr>
          <p:spPr>
            <a:xfrm>
              <a:off x="2257560" y="2766960"/>
              <a:ext cx="1117440" cy="147960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35"/>
            <p:cNvGrpSpPr/>
            <p:nvPr/>
          </p:nvGrpSpPr>
          <p:grpSpPr>
            <a:xfrm>
              <a:off x="2478240" y="3000240"/>
              <a:ext cx="668160" cy="297000"/>
              <a:chOff x="2478240" y="3000240"/>
              <a:chExt cx="668160" cy="297000"/>
            </a:xfrm>
          </p:grpSpPr>
          <p:sp>
            <p:nvSpPr>
              <p:cNvPr id="193" name="Line 36"/>
              <p:cNvSpPr/>
              <p:nvPr/>
            </p:nvSpPr>
            <p:spPr>
              <a:xfrm>
                <a:off x="2579760" y="3000240"/>
                <a:ext cx="56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37"/>
              <p:cNvSpPr/>
              <p:nvPr/>
            </p:nvSpPr>
            <p:spPr>
              <a:xfrm>
                <a:off x="2478240" y="319752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38"/>
              <p:cNvSpPr/>
              <p:nvPr/>
            </p:nvSpPr>
            <p:spPr>
              <a:xfrm>
                <a:off x="2478240" y="304884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39"/>
              <p:cNvSpPr/>
              <p:nvPr/>
            </p:nvSpPr>
            <p:spPr>
              <a:xfrm>
                <a:off x="2478240" y="309780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40"/>
              <p:cNvSpPr/>
              <p:nvPr/>
            </p:nvSpPr>
            <p:spPr>
              <a:xfrm>
                <a:off x="2478240" y="324648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41"/>
              <p:cNvSpPr/>
              <p:nvPr/>
            </p:nvSpPr>
            <p:spPr>
              <a:xfrm>
                <a:off x="2478240" y="314856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42"/>
              <p:cNvSpPr/>
              <p:nvPr/>
            </p:nvSpPr>
            <p:spPr>
              <a:xfrm>
                <a:off x="2478240" y="3297240"/>
                <a:ext cx="52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Line 43"/>
            <p:cNvSpPr/>
            <p:nvPr/>
          </p:nvSpPr>
          <p:spPr>
            <a:xfrm>
              <a:off x="2478240" y="2898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44"/>
          <p:cNvGrpSpPr/>
          <p:nvPr/>
        </p:nvGrpSpPr>
        <p:grpSpPr>
          <a:xfrm>
            <a:off x="2705040" y="3592440"/>
            <a:ext cx="1117800" cy="1479600"/>
            <a:chOff x="2705040" y="3592440"/>
            <a:chExt cx="1117800" cy="1479600"/>
          </a:xfrm>
        </p:grpSpPr>
        <p:sp>
          <p:nvSpPr>
            <p:cNvPr id="202" name="AutoShape 45"/>
            <p:cNvSpPr/>
            <p:nvPr/>
          </p:nvSpPr>
          <p:spPr>
            <a:xfrm>
              <a:off x="2705040" y="3592440"/>
              <a:ext cx="1117800" cy="147960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46"/>
            <p:cNvSpPr/>
            <p:nvPr/>
          </p:nvSpPr>
          <p:spPr>
            <a:xfrm>
              <a:off x="3027240" y="3825720"/>
              <a:ext cx="56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7"/>
            <p:cNvSpPr/>
            <p:nvPr/>
          </p:nvSpPr>
          <p:spPr>
            <a:xfrm>
              <a:off x="2925720" y="3885840"/>
              <a:ext cx="66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8"/>
            <p:cNvSpPr/>
            <p:nvPr/>
          </p:nvSpPr>
          <p:spPr>
            <a:xfrm>
              <a:off x="2925720" y="37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9"/>
          <p:cNvSpPr/>
          <p:nvPr/>
        </p:nvSpPr>
        <p:spPr>
          <a:xfrm>
            <a:off x="662040" y="3279600"/>
            <a:ext cx="124596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Verdana"/>
                <a:ea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0"/>
          <p:cNvSpPr/>
          <p:nvPr/>
        </p:nvSpPr>
        <p:spPr>
          <a:xfrm>
            <a:off x="1137240" y="4114800"/>
            <a:ext cx="118800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Verdana"/>
                <a:ea typeface="Arial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1"/>
          <p:cNvSpPr/>
          <p:nvPr/>
        </p:nvSpPr>
        <p:spPr>
          <a:xfrm>
            <a:off x="1576440" y="4948200"/>
            <a:ext cx="123984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Verdana"/>
                <a:ea typeface="Arial"/>
              </a:rPr>
              <a:t>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1" name="camera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92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192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6" dur="192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192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92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192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192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192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92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192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192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192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12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500"/>
                            </p:stCondLst>
                            <p:childTnLst>
                              <p:par>
                                <p:cTn id="4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5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99"/>
                </a:solidFill>
                <a:latin typeface="Arial"/>
              </a:rPr>
              <a:t>El tema es distinto del asu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SU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dica de qué trata un 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s-ES" sz="2200" spc="-1" strike="noStrike">
                <a:solidFill>
                  <a:srgbClr val="ff3300"/>
                </a:solidFill>
                <a:latin typeface="Arial"/>
              </a:rPr>
              <a:t>La adolescenci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dica de qué trata un texto, pero incorporando además la postura o tesis del autor a propósito del asu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s-ES" sz="2200" spc="-1" strike="noStrike">
                <a:solidFill>
                  <a:srgbClr val="ff3300"/>
                </a:solidFill>
                <a:latin typeface="Arial"/>
              </a:rPr>
              <a:t>Dificultades de relación generacional en la adolescenci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s-ES" sz="3800" spc="-1" strike="noStrike">
                <a:solidFill>
                  <a:srgbClr val="ff3300"/>
                </a:solidFill>
                <a:latin typeface="Arial"/>
              </a:rPr>
              <a:t>Ideas generales sobre el comentario crítico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El comentario crítico debe servir para </a:t>
            </a: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demostrar la madurez y la capacidad de reflexión</a:t>
            </a: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 del alumn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Debe estar escrito con </a:t>
            </a: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corrección ortográfica, léxica y gramatical</a:t>
            </a: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Debemos poner especial atención en su realización, pues las preguntas referentes al texto suman en total </a:t>
            </a: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6 puntos</a:t>
            </a: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99"/>
                </a:solidFill>
                <a:latin typeface="Arial"/>
              </a:rPr>
              <a:t>¿Cómo debe ser el tema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Breve: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una sola frase que recoja la idea fundamental y la intención del au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Preci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General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: se recomienda una frase nominal cuyo núcleo sea un sustantivo abstracto precisado por comp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99"/>
                </a:solidFill>
                <a:latin typeface="Arial"/>
              </a:rPr>
              <a:t>Ejemplos de te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desmotivación por el estudio en la juvent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necesidad de una ley contra el r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crisis económica de la actu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efecto de la droga en la juvent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importancia de los valores cívico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8" descr="rui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52960" y="2141640"/>
            <a:ext cx="1428840" cy="1104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4" descr="inversiones1"/>
          <p:cNvPicPr/>
          <p:nvPr/>
        </p:nvPicPr>
        <p:blipFill>
          <a:blip r:embed="rId3"/>
          <a:stretch/>
        </p:blipFill>
        <p:spPr>
          <a:xfrm>
            <a:off x="6156360" y="414972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sosemergencias_solidarios-y-cooperantes1"/>
          <p:cNvPicPr/>
          <p:nvPr/>
        </p:nvPicPr>
        <p:blipFill>
          <a:blip r:embed="rId4"/>
          <a:stretch/>
        </p:blipFill>
        <p:spPr>
          <a:xfrm>
            <a:off x="7380360" y="8366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0" descr="aburrida"/>
          <p:cNvPicPr/>
          <p:nvPr/>
        </p:nvPicPr>
        <p:blipFill>
          <a:blip r:embed="rId5"/>
          <a:stretch/>
        </p:blipFill>
        <p:spPr>
          <a:xfrm>
            <a:off x="4500720" y="4365720"/>
            <a:ext cx="12078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76000" y="292428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1 pu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Segunda parte de la segunda pregunta del examen de Sel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1979640" y="1413000"/>
            <a:ext cx="5257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umen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95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Arial"/>
              </a:rPr>
              <a:t>¿Qué 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66"/>
                </a:solidFill>
                <a:latin typeface="Arial"/>
              </a:rPr>
              <a:t>El resumen es la reformulación sintética del conteni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¿Cómo debe s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Arial"/>
              </a:rPr>
              <a:t>Breve (aproximadamente un 20% del texto comple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Arial"/>
              </a:rPr>
              <a:t>Solo con ideas generales (prescindir de las particularidad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Arial"/>
              </a:rPr>
              <a:t>Ordenado: debe seguir el orden de las idea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Arial"/>
              </a:rPr>
              <a:t>Debe presentar el mismo estilo del autor y su misma forma de discurso (exposición, narración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Arial"/>
              </a:rPr>
              <a:t>No copiar pasajes literales (redacción origi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Arial"/>
              </a:rPr>
              <a:t>A ser posible, en un solo párraf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Arial"/>
              </a:rPr>
              <a:t>¿Resumen por párrafo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523880" y="4907520"/>
            <a:ext cx="6916680" cy="1008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Pero pueden utilizarse varios párraf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 si la complejidad conceptual o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structural del texto original así lo exigen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4"/>
          <p:cNvGrpSpPr/>
          <p:nvPr/>
        </p:nvGrpSpPr>
        <p:grpSpPr>
          <a:xfrm>
            <a:off x="1522440" y="1971720"/>
            <a:ext cx="1785960" cy="2454120"/>
            <a:chOff x="1522440" y="1971720"/>
            <a:chExt cx="1785960" cy="2454120"/>
          </a:xfrm>
        </p:grpSpPr>
        <p:sp>
          <p:nvSpPr>
            <p:cNvPr id="230" name="AutoShape 5"/>
            <p:cNvSpPr/>
            <p:nvPr/>
          </p:nvSpPr>
          <p:spPr>
            <a:xfrm>
              <a:off x="1522440" y="1971720"/>
              <a:ext cx="1785960" cy="2454120"/>
            </a:xfrm>
            <a:prstGeom prst="foldedCorner">
              <a:avLst>
                <a:gd name="adj" fmla="val 125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6"/>
            <p:cNvGrpSpPr/>
            <p:nvPr/>
          </p:nvGrpSpPr>
          <p:grpSpPr>
            <a:xfrm>
              <a:off x="1675080" y="2333520"/>
              <a:ext cx="1485000" cy="1842480"/>
              <a:chOff x="1675080" y="2333520"/>
              <a:chExt cx="1485000" cy="1842480"/>
            </a:xfrm>
          </p:grpSpPr>
          <p:grpSp>
            <p:nvGrpSpPr>
              <p:cNvPr id="232" name="Group 7"/>
              <p:cNvGrpSpPr/>
              <p:nvPr/>
            </p:nvGrpSpPr>
            <p:grpSpPr>
              <a:xfrm>
                <a:off x="1675080" y="2333520"/>
                <a:ext cx="1485000" cy="719280"/>
                <a:chOff x="1675080" y="2333520"/>
                <a:chExt cx="1485000" cy="719280"/>
              </a:xfrm>
            </p:grpSpPr>
            <p:sp>
              <p:nvSpPr>
                <p:cNvPr id="233" name="Line 8"/>
                <p:cNvSpPr/>
                <p:nvPr/>
              </p:nvSpPr>
              <p:spPr>
                <a:xfrm>
                  <a:off x="1675080" y="3052800"/>
                  <a:ext cx="989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"/>
                <p:cNvSpPr/>
                <p:nvPr/>
              </p:nvSpPr>
              <p:spPr>
                <a:xfrm>
                  <a:off x="1675080" y="23983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"/>
                <p:cNvSpPr/>
                <p:nvPr/>
              </p:nvSpPr>
              <p:spPr>
                <a:xfrm>
                  <a:off x="1675080" y="24642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1"/>
                <p:cNvSpPr/>
                <p:nvPr/>
              </p:nvSpPr>
              <p:spPr>
                <a:xfrm>
                  <a:off x="1675080" y="25290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2"/>
                <p:cNvSpPr/>
                <p:nvPr/>
              </p:nvSpPr>
              <p:spPr>
                <a:xfrm>
                  <a:off x="1873080" y="2333520"/>
                  <a:ext cx="1287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3"/>
                <p:cNvSpPr/>
                <p:nvPr/>
              </p:nvSpPr>
              <p:spPr>
                <a:xfrm>
                  <a:off x="1675080" y="25948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4"/>
                <p:cNvSpPr/>
                <p:nvPr/>
              </p:nvSpPr>
              <p:spPr>
                <a:xfrm>
                  <a:off x="1675080" y="26593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5"/>
                <p:cNvSpPr/>
                <p:nvPr/>
              </p:nvSpPr>
              <p:spPr>
                <a:xfrm>
                  <a:off x="1675080" y="27252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6"/>
                <p:cNvSpPr/>
                <p:nvPr/>
              </p:nvSpPr>
              <p:spPr>
                <a:xfrm>
                  <a:off x="1675080" y="27900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7"/>
                <p:cNvSpPr/>
                <p:nvPr/>
              </p:nvSpPr>
              <p:spPr>
                <a:xfrm>
                  <a:off x="1675080" y="28558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8"/>
                <p:cNvSpPr/>
                <p:nvPr/>
              </p:nvSpPr>
              <p:spPr>
                <a:xfrm>
                  <a:off x="1675080" y="29206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"/>
                <p:cNvSpPr/>
                <p:nvPr/>
              </p:nvSpPr>
              <p:spPr>
                <a:xfrm>
                  <a:off x="1675080" y="29869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20"/>
              <p:cNvGrpSpPr/>
              <p:nvPr/>
            </p:nvGrpSpPr>
            <p:grpSpPr>
              <a:xfrm>
                <a:off x="1675080" y="3718440"/>
                <a:ext cx="1485000" cy="457560"/>
                <a:chOff x="1675080" y="3718440"/>
                <a:chExt cx="1485000" cy="457560"/>
              </a:xfrm>
            </p:grpSpPr>
            <p:sp>
              <p:nvSpPr>
                <p:cNvPr id="246" name="Line 21"/>
                <p:cNvSpPr/>
                <p:nvPr/>
              </p:nvSpPr>
              <p:spPr>
                <a:xfrm>
                  <a:off x="1675080" y="37828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22"/>
                <p:cNvSpPr/>
                <p:nvPr/>
              </p:nvSpPr>
              <p:spPr>
                <a:xfrm>
                  <a:off x="1675080" y="38491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23"/>
                <p:cNvSpPr/>
                <p:nvPr/>
              </p:nvSpPr>
              <p:spPr>
                <a:xfrm>
                  <a:off x="1675080" y="39139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24"/>
                <p:cNvSpPr/>
                <p:nvPr/>
              </p:nvSpPr>
              <p:spPr>
                <a:xfrm>
                  <a:off x="1872720" y="3718440"/>
                  <a:ext cx="128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25"/>
                <p:cNvSpPr/>
                <p:nvPr/>
              </p:nvSpPr>
              <p:spPr>
                <a:xfrm>
                  <a:off x="1675080" y="39798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26"/>
                <p:cNvSpPr/>
                <p:nvPr/>
              </p:nvSpPr>
              <p:spPr>
                <a:xfrm>
                  <a:off x="1675080" y="404424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27"/>
                <p:cNvSpPr/>
                <p:nvPr/>
              </p:nvSpPr>
              <p:spPr>
                <a:xfrm>
                  <a:off x="1675080" y="41104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8"/>
                <p:cNvSpPr/>
                <p:nvPr/>
              </p:nvSpPr>
              <p:spPr>
                <a:xfrm>
                  <a:off x="1675080" y="4174920"/>
                  <a:ext cx="126936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29"/>
              <p:cNvGrpSpPr/>
              <p:nvPr/>
            </p:nvGrpSpPr>
            <p:grpSpPr>
              <a:xfrm>
                <a:off x="1675080" y="3164040"/>
                <a:ext cx="1485000" cy="391680"/>
                <a:chOff x="1675080" y="3164040"/>
                <a:chExt cx="1485000" cy="391680"/>
              </a:xfrm>
            </p:grpSpPr>
            <p:sp>
              <p:nvSpPr>
                <p:cNvPr id="255" name="Line 30"/>
                <p:cNvSpPr/>
                <p:nvPr/>
              </p:nvSpPr>
              <p:spPr>
                <a:xfrm>
                  <a:off x="1675080" y="322884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31"/>
                <p:cNvSpPr/>
                <p:nvPr/>
              </p:nvSpPr>
              <p:spPr>
                <a:xfrm>
                  <a:off x="1675080" y="32947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32"/>
                <p:cNvSpPr/>
                <p:nvPr/>
              </p:nvSpPr>
              <p:spPr>
                <a:xfrm>
                  <a:off x="1675080" y="33595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Line 33"/>
                <p:cNvSpPr/>
                <p:nvPr/>
              </p:nvSpPr>
              <p:spPr>
                <a:xfrm>
                  <a:off x="1872720" y="3164040"/>
                  <a:ext cx="128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Line 34"/>
                <p:cNvSpPr/>
                <p:nvPr/>
              </p:nvSpPr>
              <p:spPr>
                <a:xfrm>
                  <a:off x="1675080" y="34254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Line 35"/>
                <p:cNvSpPr/>
                <p:nvPr/>
              </p:nvSpPr>
              <p:spPr>
                <a:xfrm>
                  <a:off x="1675080" y="348984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6"/>
                <p:cNvSpPr/>
                <p:nvPr/>
              </p:nvSpPr>
              <p:spPr>
                <a:xfrm flipV="1">
                  <a:off x="1675080" y="3552120"/>
                  <a:ext cx="295920" cy="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2" name="Text Box 37"/>
            <p:cNvSpPr/>
            <p:nvPr/>
          </p:nvSpPr>
          <p:spPr>
            <a:xfrm>
              <a:off x="1803240" y="2046240"/>
              <a:ext cx="11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Elephant"/>
                  <a:ea typeface="Arial"/>
                </a:rPr>
                <a:t>Texto origi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38"/>
          <p:cNvGrpSpPr/>
          <p:nvPr/>
        </p:nvGrpSpPr>
        <p:grpSpPr>
          <a:xfrm>
            <a:off x="6657840" y="1971720"/>
            <a:ext cx="1785960" cy="2454120"/>
            <a:chOff x="6657840" y="1971720"/>
            <a:chExt cx="1785960" cy="2454120"/>
          </a:xfrm>
        </p:grpSpPr>
        <p:sp>
          <p:nvSpPr>
            <p:cNvPr id="264" name="AutoShape 39"/>
            <p:cNvSpPr/>
            <p:nvPr/>
          </p:nvSpPr>
          <p:spPr>
            <a:xfrm>
              <a:off x="6657840" y="1971720"/>
              <a:ext cx="1785960" cy="2454120"/>
            </a:xfrm>
            <a:prstGeom prst="foldedCorner">
              <a:avLst>
                <a:gd name="adj" fmla="val 125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40"/>
            <p:cNvGrpSpPr/>
            <p:nvPr/>
          </p:nvGrpSpPr>
          <p:grpSpPr>
            <a:xfrm>
              <a:off x="6807240" y="2533680"/>
              <a:ext cx="1485720" cy="652320"/>
              <a:chOff x="6807240" y="2533680"/>
              <a:chExt cx="1485720" cy="652320"/>
            </a:xfrm>
          </p:grpSpPr>
          <p:sp>
            <p:nvSpPr>
              <p:cNvPr id="266" name="Line 41"/>
              <p:cNvSpPr/>
              <p:nvPr/>
            </p:nvSpPr>
            <p:spPr>
              <a:xfrm>
                <a:off x="6807240" y="259884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42"/>
              <p:cNvSpPr/>
              <p:nvPr/>
            </p:nvSpPr>
            <p:spPr>
              <a:xfrm>
                <a:off x="6807240" y="266400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43"/>
              <p:cNvSpPr/>
              <p:nvPr/>
            </p:nvSpPr>
            <p:spPr>
              <a:xfrm>
                <a:off x="6807240" y="272880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44"/>
              <p:cNvSpPr/>
              <p:nvPr/>
            </p:nvSpPr>
            <p:spPr>
              <a:xfrm>
                <a:off x="7005600" y="2533680"/>
                <a:ext cx="128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45"/>
              <p:cNvSpPr/>
              <p:nvPr/>
            </p:nvSpPr>
            <p:spPr>
              <a:xfrm>
                <a:off x="6807240" y="279576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46"/>
              <p:cNvSpPr/>
              <p:nvPr/>
            </p:nvSpPr>
            <p:spPr>
              <a:xfrm>
                <a:off x="6807240" y="285912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47"/>
              <p:cNvSpPr/>
              <p:nvPr/>
            </p:nvSpPr>
            <p:spPr>
              <a:xfrm>
                <a:off x="6807240" y="292572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48"/>
              <p:cNvSpPr/>
              <p:nvPr/>
            </p:nvSpPr>
            <p:spPr>
              <a:xfrm>
                <a:off x="6807240" y="299088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49"/>
              <p:cNvSpPr/>
              <p:nvPr/>
            </p:nvSpPr>
            <p:spPr>
              <a:xfrm>
                <a:off x="6807240" y="305604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50"/>
              <p:cNvSpPr/>
              <p:nvPr/>
            </p:nvSpPr>
            <p:spPr>
              <a:xfrm>
                <a:off x="6807240" y="312120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51"/>
              <p:cNvSpPr/>
              <p:nvPr/>
            </p:nvSpPr>
            <p:spPr>
              <a:xfrm>
                <a:off x="6807240" y="3186000"/>
                <a:ext cx="555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52"/>
            <p:cNvSpPr/>
            <p:nvPr/>
          </p:nvSpPr>
          <p:spPr>
            <a:xfrm>
              <a:off x="6914880" y="216684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Rage Italic"/>
                  <a:ea typeface="Arial"/>
                </a:rPr>
                <a:t>Resu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AutoShape 53"/>
          <p:cNvSpPr/>
          <p:nvPr/>
        </p:nvSpPr>
        <p:spPr>
          <a:xfrm>
            <a:off x="3654360" y="2027160"/>
            <a:ext cx="2787840" cy="2352600"/>
          </a:xfrm>
          <a:prstGeom prst="rightArrow">
            <a:avLst>
              <a:gd name="adj1" fmla="val 50000"/>
              <a:gd name="adj2" fmla="val 29625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Generalmente,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s preferibl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un solo pár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amera.wav"/>
      </p:stSnd>
    </p:sndAc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Algunos procedimientos úti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524600" y="1892160"/>
            <a:ext cx="424980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Sustitución por hiperón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1403280" y="2708280"/>
            <a:ext cx="6697800" cy="224100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270000" tIns="262800" bIns="190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montonaban en los rincones, pasillos y alacenas de la mansión sillas desvencijadas, sillones desfondados, desportilladas mesas que antaño mostraron orgullosas sus filigranas de nogal, ébano, teca, roble y otras maderas traídas de allende los m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326600" y="5060880"/>
            <a:ext cx="444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uebles viejos de maderas nobles se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pilaban por toda la man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716200" y="3241800"/>
            <a:ext cx="244800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5292720" y="3241800"/>
            <a:ext cx="259236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1547640" y="3543480"/>
            <a:ext cx="234504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3151080" y="4187880"/>
            <a:ext cx="574920" cy="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3957480" y="4187880"/>
            <a:ext cx="574920" cy="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"/>
          <p:cNvSpPr/>
          <p:nvPr/>
        </p:nvSpPr>
        <p:spPr>
          <a:xfrm>
            <a:off x="4780080" y="4187880"/>
            <a:ext cx="458640" cy="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5386320" y="4187880"/>
            <a:ext cx="517680" cy="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3" descr="Mansion"/>
          <p:cNvPicPr/>
          <p:nvPr/>
        </p:nvPicPr>
        <p:blipFill>
          <a:blip r:embed="rId1"/>
          <a:stretch/>
        </p:blipFill>
        <p:spPr>
          <a:xfrm>
            <a:off x="6300720" y="4991040"/>
            <a:ext cx="1758960" cy="114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amera.wav"/>
      </p:stSnd>
    </p:sndAc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04723 0.2206 E">
                                      <p:cBhvr>
                                        <p:cTn id="608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-0.19688 0.2625 E">
                                      <p:cBhvr>
                                        <p:cTn id="610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-0.4724 0.2625 E">
                                      <p:cBhvr>
                                        <p:cTn id="612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208 L 0.0033 0.17619 E">
                                      <p:cBhvr>
                                        <p:cTn id="616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0208 L -0.02639 0.17619 E">
                                      <p:cBhvr>
                                        <p:cTn id="618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19653E-006 L -0.05521 0.17665 E">
                                      <p:cBhvr>
                                        <p:cTn id="620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208 L -0.07135 0.17688 E">
                                      <p:cBhvr>
                                        <p:cTn id="622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Algunos procedimientos úti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Text Box 3"/>
          <p:cNvSpPr/>
          <p:nvPr/>
        </p:nvSpPr>
        <p:spPr>
          <a:xfrm rot="16200000">
            <a:off x="-334800" y="4719240"/>
            <a:ext cx="2067480" cy="825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Supresión de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datos y cif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1332000" y="1484280"/>
            <a:ext cx="7278480" cy="334620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270000" tIns="262800" bIns="190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STE DE LA VUELTA AL COLE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os centros públicos no hay gastos de matrícula pero se paga comedor (entre 35 y 90 €) y transporte (entre 35 y 75 €). En los concertados, los gastos de matrícula suelen rondar los 100 € y el coste del comedor y transporte es similar al de los públicos. En cuanto a los privados, el gasto medio por mensualidad está entre los 220 y los 400 €, según las etapas escolares. El gasto de comedor se eleva a 120 € y el transporte está en torno a los 100 €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1403280" y="5013360"/>
            <a:ext cx="550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coste de la vuelta al colegio es mucho más alto en los centros privados que en los públicos y concer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insti8"/>
          <p:cNvPicPr/>
          <p:nvPr/>
        </p:nvPicPr>
        <p:blipFill>
          <a:blip r:embed="rId1"/>
          <a:stretch/>
        </p:blipFill>
        <p:spPr>
          <a:xfrm>
            <a:off x="7209000" y="5253120"/>
            <a:ext cx="1333440" cy="1000080"/>
          </a:xfrm>
          <a:prstGeom prst="rect">
            <a:avLst/>
          </a:prstGeom>
          <a:ln w="0">
            <a:noFill/>
          </a:ln>
        </p:spPr>
      </p:pic>
    </p:spTree>
  </p:cSld>
  <p:transition>
    <p:cover dir="l"/>
    <p:sndAc>
      <p:stSnd>
        <p:snd r:embed="rId2" name="camera.wav"/>
      </p:stSnd>
    </p:sndAc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Algunos procedimientos úti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476360" y="1413000"/>
            <a:ext cx="712152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Reducción o supresión de adyacentes la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3708360" y="2276640"/>
            <a:ext cx="4916520" cy="362124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270000" tIns="262800" bIns="190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Heavy"/>
                <a:ea typeface="Arial"/>
              </a:rPr>
              <a:t>Todos estos adolescentes que, </a:t>
            </a:r>
            <a:r>
              <a:rPr b="1" lang="es-ES" sz="1800" spc="-1" strike="noStrike">
                <a:solidFill>
                  <a:srgbClr val="ff3300"/>
                </a:solidFill>
                <a:latin typeface="Franklin Gothic Heavy"/>
                <a:ea typeface="Arial"/>
              </a:rPr>
              <a:t>sor-prendidos cruelmente por su propio organismo en desarrollo con descargas hormonales insospechadas, muestran un comportamiento huraño y retraído en casa</a:t>
            </a:r>
            <a:r>
              <a:rPr b="1" lang="es-ES" sz="1800" spc="-1" strike="noStrike">
                <a:solidFill>
                  <a:srgbClr val="000000"/>
                </a:solidFill>
                <a:latin typeface="Franklin Gothic Heavy"/>
                <a:ea typeface="Arial"/>
              </a:rPr>
              <a:t>, </a:t>
            </a:r>
            <a:r>
              <a:rPr b="1" lang="es-ES" sz="1800" spc="-1" strike="noStrike">
                <a:solidFill>
                  <a:srgbClr val="6600cc"/>
                </a:solidFill>
                <a:latin typeface="Franklin Gothic Heavy"/>
                <a:ea typeface="Arial"/>
              </a:rPr>
              <a:t>son los que dibujan el retrato prototípico del adolescente que aparece en los manuales de psic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403280" y="5373720"/>
            <a:ext cx="744552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os adolescentes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huraños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ES" sz="2400" spc="-1" strike="noStrike">
                <a:solidFill>
                  <a:srgbClr val="6600cc"/>
                </a:solidFill>
                <a:latin typeface="Arial"/>
                <a:ea typeface="Arial"/>
              </a:rPr>
              <a:t>constituyen el arquetipo que se estudia en los man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Adolescen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9640" y="2133720"/>
            <a:ext cx="2146320" cy="316224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amera.wav"/>
      </p:stSnd>
    </p:sndAc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32000" y="2997360"/>
            <a:ext cx="597672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3 pu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Tercera pregunta del examen de Sel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4"/>
          <p:cNvSpPr txBox="1"/>
          <p:nvPr/>
        </p:nvSpPr>
        <p:spPr>
          <a:xfrm>
            <a:off x="1979640" y="141300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omentario crítico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obre el contenido del texto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25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2 Marcador de número de diapositiva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99E6-1F89-44E8-8D2C-154D49B8202D}" type="slidenum">
              <a:rPr b="1" lang="es-ES" sz="1200" spc="-1" strike="noStrike">
                <a:solidFill>
                  <a:srgbClr val="5f5f5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8" descr="GraduaciónGuiño"/>
          <p:cNvPicPr/>
          <p:nvPr/>
        </p:nvPicPr>
        <p:blipFill>
          <a:blip r:embed="rId1"/>
          <a:stretch/>
        </p:blipFill>
        <p:spPr>
          <a:xfrm>
            <a:off x="6751800" y="3263760"/>
            <a:ext cx="2070000" cy="2319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4"/>
          <p:cNvSpPr/>
          <p:nvPr/>
        </p:nvSpPr>
        <p:spPr>
          <a:xfrm>
            <a:off x="2235240" y="4765680"/>
            <a:ext cx="3700440" cy="406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71360" y="3860640"/>
            <a:ext cx="165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Comentario</a:t>
            </a:r>
            <a:br>
              <a:rPr sz="2000"/>
            </a:b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de 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1835280" y="3357720"/>
            <a:ext cx="258480" cy="1800000"/>
          </a:xfrm>
          <a:custGeom>
            <a:avLst/>
            <a:gdLst>
              <a:gd name="textAreaLeft" fmla="*/ 165240 w 258480"/>
              <a:gd name="textAreaRight" fmla="*/ 258840 w 2584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332080" y="3308400"/>
            <a:ext cx="28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1ª parte:</a:t>
            </a:r>
            <a:r>
              <a:rPr b="0" lang="es-ES" sz="2000" spc="-1" strike="noStrike">
                <a:solidFill>
                  <a:srgbClr val="5f5f5f"/>
                </a:solidFill>
                <a:latin typeface="Verdana"/>
                <a:ea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              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de las ideas</a:t>
            </a:r>
            <a:r>
              <a:rPr b="0" lang="es-ES" sz="2000" spc="-1" strike="noStrike">
                <a:solidFill>
                  <a:srgbClr val="5f5f5f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307960" y="3933720"/>
            <a:ext cx="18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2ª parte:</a:t>
            </a:r>
            <a:r>
              <a:rPr b="0" lang="es-ES" sz="2000" spc="-1" strike="noStrike">
                <a:solidFill>
                  <a:srgbClr val="5f5f5f"/>
                </a:solidFill>
                <a:latin typeface="Verdana"/>
                <a:ea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2293560" y="4273560"/>
            <a:ext cx="23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3ª parte:</a:t>
            </a:r>
            <a:r>
              <a:rPr b="0" lang="es-ES" sz="2000" spc="-1" strike="noStrike">
                <a:solidFill>
                  <a:srgbClr val="5f5f5f"/>
                </a:solidFill>
                <a:latin typeface="Verdana"/>
                <a:ea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330640" y="4756320"/>
            <a:ext cx="342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4ª parte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comentario crí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258840" y="5940360"/>
            <a:ext cx="8559720" cy="3834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cc"/>
                </a:solidFill>
                <a:latin typeface="Verdana"/>
                <a:ea typeface="Arial"/>
              </a:rPr>
              <a:t>evita repetir al pie de la letra lo ya dicho en las preguntas anterio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1042920" y="260280"/>
            <a:ext cx="7274160" cy="1434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cc"/>
                </a:solidFill>
                <a:latin typeface="Arial"/>
                <a:ea typeface="Arial"/>
              </a:rPr>
              <a:t>El comentario de texto de la prueba de Selectividad consta de una serie de apartados: organización de las ideas o estructura, tema, resumen y comentario crítico propiamente dic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257040" y="5524560"/>
            <a:ext cx="8556840" cy="425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Caben alusiones a lo anterior, ampliaciones, matizaciones…  P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5003640" y="1844640"/>
            <a:ext cx="2598840" cy="1204920"/>
          </a:xfrm>
          <a:prstGeom prst="wedgeRoundRectCallout">
            <a:avLst>
              <a:gd name="adj1" fmla="val 58185"/>
              <a:gd name="adj2" fmla="val 114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Pues, yo lo hice sin que se notara mucho… y col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0"/>
          <p:cNvSpPr/>
          <p:nvPr/>
        </p:nvSpPr>
        <p:spPr>
          <a:xfrm>
            <a:off x="262080" y="5915160"/>
            <a:ext cx="1639800" cy="4791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2" name="camera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6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6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76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6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6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78035E-007 C -0.02413 0.02775 -0.05278 0.05457 -0.08385 0.05942 C -0.11458 0.06428 -0.16458 0.01965 -0.18628 0.02844 C -0.20816 0.03699 -0.20885 0.09503 -0.21441 0.1126 E">
                                      <p:cBhvr>
                                        <p:cTn id="6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27" repeatCount="7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0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cc"/>
                </a:solidFill>
                <a:latin typeface="Arial"/>
              </a:rPr>
              <a:t>¿Qué es el comentario crítico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Es una reflexión crítica sobre el contenido del texto partiendo de la idea central o tesis en la que el alumno debe demostrar su madurez y capacidad para disertar sobre un tema con fluidez, originalidad y coh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0000"/>
                </a:solidFill>
                <a:latin typeface="Arial"/>
              </a:rPr>
              <a:t>Truco: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el alumno actuará  como si se tratara de un ejercicio de redacción sobre un tema determinado, con argumentos y opiniones basados en datos, hechos y experienc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2 Marcador de número de diapositiva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A29F-E56A-4997-BE2C-98BC70D5BBBE}" type="slidenum">
              <a:rPr b="1" lang="es-ES" sz="1200" spc="-1" strike="noStrike">
                <a:solidFill>
                  <a:srgbClr val="5f5f5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cc"/>
                </a:solidFill>
                <a:latin typeface="Arial"/>
              </a:rPr>
              <a:t>Muy importante: no es un comentario de la expresión, sino del conteni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8" name="AutoShape 9"/>
          <p:cNvSpPr/>
          <p:nvPr/>
        </p:nvSpPr>
        <p:spPr>
          <a:xfrm>
            <a:off x="1530360" y="2246400"/>
            <a:ext cx="3462480" cy="327024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Análisi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"/>
              </a:rPr>
              <a:t>caracterización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de la ex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6"/>
          <p:cNvGrpSpPr/>
          <p:nvPr/>
        </p:nvGrpSpPr>
        <p:grpSpPr>
          <a:xfrm>
            <a:off x="5183280" y="2263680"/>
            <a:ext cx="3265560" cy="3251160"/>
            <a:chOff x="5183280" y="2263680"/>
            <a:chExt cx="3265560" cy="3251160"/>
          </a:xfrm>
        </p:grpSpPr>
        <p:sp>
          <p:nvSpPr>
            <p:cNvPr id="310" name="Rectangle 14"/>
            <p:cNvSpPr/>
            <p:nvPr/>
          </p:nvSpPr>
          <p:spPr>
            <a:xfrm>
              <a:off x="5183280" y="2263680"/>
              <a:ext cx="3265560" cy="32511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1"/>
            <p:cNvSpPr/>
            <p:nvPr/>
          </p:nvSpPr>
          <p:spPr>
            <a:xfrm>
              <a:off x="5353200" y="2424240"/>
              <a:ext cx="2946240" cy="2917800"/>
            </a:xfrm>
            <a:prstGeom prst="upArrow">
              <a:avLst>
                <a:gd name="adj1" fmla="val 58565"/>
                <a:gd name="adj2" fmla="val 2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ná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y juic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obre 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nteni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2"/>
          <p:cNvSpPr/>
          <p:nvPr/>
        </p:nvSpPr>
        <p:spPr>
          <a:xfrm>
            <a:off x="1187280" y="1700280"/>
            <a:ext cx="72406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No hay que explicar la forma sino el fondo del 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317520" y="5635800"/>
            <a:ext cx="8356680" cy="764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Arial"/>
              </a:rPr>
              <a:t>Se puede hacer referencia a rasgos formales siempre que nos permitan extraer conclusiones sobre el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1" name="camera.wav"/>
      </p:stSnd>
    </p:sndAc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2 Marcador de número de diapositiva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E76B-B03E-4B80-BD04-80C982332E09}" type="slidenum">
              <a:rPr b="1" lang="es-ES" sz="1200" spc="-1" strike="noStrike">
                <a:solidFill>
                  <a:srgbClr val="5f5f5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1422360" y="4730760"/>
            <a:ext cx="7185240" cy="1657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cc"/>
                </a:solidFill>
                <a:latin typeface="Arial"/>
              </a:rPr>
              <a:t>¿Qué tipos de textos pueden aparecer en el examen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332000" y="1628640"/>
            <a:ext cx="720072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n teoría se podría seleccionar cualquier tipo de 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484280" y="5418000"/>
            <a:ext cx="3533760" cy="947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Textos periodís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Colum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Edito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5045040" y="4767120"/>
            <a:ext cx="3527640" cy="1496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Textos liter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Fragmentos de nov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Fragmentos de d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Fragmentos de po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Poemas compl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3" descr="FabadaAsturiana"/>
          <p:cNvPicPr/>
          <p:nvPr/>
        </p:nvPicPr>
        <p:blipFill>
          <a:blip r:embed="rId1"/>
          <a:stretch/>
        </p:blipFill>
        <p:spPr>
          <a:xfrm>
            <a:off x="3913200" y="2417760"/>
            <a:ext cx="1581120" cy="2122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4" descr="TextoPlanContabilidad"/>
          <p:cNvPicPr/>
          <p:nvPr/>
        </p:nvPicPr>
        <p:blipFill>
          <a:blip r:embed="rId2"/>
          <a:stretch/>
        </p:blipFill>
        <p:spPr>
          <a:xfrm>
            <a:off x="1425600" y="2246400"/>
            <a:ext cx="1622520" cy="2282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ProspectoMedicinas"/>
          <p:cNvPicPr/>
          <p:nvPr/>
        </p:nvPicPr>
        <p:blipFill>
          <a:blip r:embed="rId3"/>
          <a:stretch/>
        </p:blipFill>
        <p:spPr>
          <a:xfrm>
            <a:off x="6167520" y="2313000"/>
            <a:ext cx="2448000" cy="22795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9"/>
          <p:cNvSpPr/>
          <p:nvPr/>
        </p:nvSpPr>
        <p:spPr>
          <a:xfrm>
            <a:off x="1492200" y="4765680"/>
            <a:ext cx="35258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n la práctica se 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legido só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4" name="camera.wav"/>
      </p:stSnd>
    </p:sndAc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2 Marcador de número de diapositiva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EA84-552A-4D16-AE2E-53A1529240F8}" type="slidenum">
              <a:rPr b="1" lang="es-ES" sz="1200" spc="-1" strike="noStrike">
                <a:solidFill>
                  <a:srgbClr val="5f5f5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cc"/>
                </a:solidFill>
                <a:latin typeface="Arial"/>
              </a:rPr>
              <a:t>¿Qué temática pueden aparec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1405080" y="2190600"/>
            <a:ext cx="3128760" cy="1008000"/>
          </a:xfrm>
          <a:custGeom>
            <a:avLst/>
            <a:gdLst>
              <a:gd name="textAreaLeft" fmla="*/ 0 w 3128760"/>
              <a:gd name="textAreaRight" fmla="*/ 3129120 w 31287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4" y="0"/>
                </a:lnTo>
                <a:lnTo>
                  <a:pt x="21600" y="10800"/>
                </a:lnTo>
                <a:lnTo>
                  <a:pt x="1909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La prueba trata de medir la madurez intelectual y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flipH="1">
            <a:off x="2307600" y="3490920"/>
            <a:ext cx="1909800" cy="1618560"/>
          </a:xfrm>
          <a:custGeom>
            <a:avLst/>
            <a:gdLst>
              <a:gd name="textAreaLeft" fmla="*/ -360 w 1909800"/>
              <a:gd name="textAreaRight" fmla="*/ 1909800 w 1909800"/>
              <a:gd name="textAreaTop" fmla="*/ 0 h 1618560"/>
              <a:gd name="textAreaBottom" fmla="*/ 1618920 h 161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Con frecuencia, los textos tratan de temas de actu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284040" y="5708520"/>
            <a:ext cx="8597880" cy="703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La lectura frecuente de editoriales y columnas periodísticos te mantendrá informado de la actualidad política, cultural y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9" descr="diarios"/>
          <p:cNvPicPr/>
          <p:nvPr/>
        </p:nvPicPr>
        <p:blipFill>
          <a:blip r:embed="rId1"/>
          <a:stretch/>
        </p:blipFill>
        <p:spPr>
          <a:xfrm>
            <a:off x="351000" y="3409920"/>
            <a:ext cx="1760400" cy="21416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17"/>
          <p:cNvSpPr/>
          <p:nvPr/>
        </p:nvSpPr>
        <p:spPr>
          <a:xfrm>
            <a:off x="4632480" y="1643040"/>
            <a:ext cx="40240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¿Hay que saber de to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4"/>
          <p:cNvGrpSpPr/>
          <p:nvPr/>
        </p:nvGrpSpPr>
        <p:grpSpPr>
          <a:xfrm>
            <a:off x="5408640" y="4299120"/>
            <a:ext cx="1358640" cy="1282680"/>
            <a:chOff x="5408640" y="4299120"/>
            <a:chExt cx="1358640" cy="1282680"/>
          </a:xfrm>
        </p:grpSpPr>
        <p:pic>
          <p:nvPicPr>
            <p:cNvPr id="332" name="Picture 14" descr="Tematicacorazon"/>
            <p:cNvPicPr/>
            <p:nvPr/>
          </p:nvPicPr>
          <p:blipFill>
            <a:blip r:embed="rId2"/>
            <a:stretch/>
          </p:blipFill>
          <p:spPr>
            <a:xfrm>
              <a:off x="5408640" y="4299120"/>
              <a:ext cx="135864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18"/>
            <p:cNvSpPr/>
            <p:nvPr/>
          </p:nvSpPr>
          <p:spPr>
            <a:xfrm>
              <a:off x="5657760" y="466416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m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3"/>
          <p:cNvGrpSpPr/>
          <p:nvPr/>
        </p:nvGrpSpPr>
        <p:grpSpPr>
          <a:xfrm>
            <a:off x="5081760" y="3467160"/>
            <a:ext cx="1838160" cy="923760"/>
            <a:chOff x="5081760" y="3467160"/>
            <a:chExt cx="1838160" cy="923760"/>
          </a:xfrm>
        </p:grpSpPr>
        <p:pic>
          <p:nvPicPr>
            <p:cNvPr id="335" name="Picture 16" descr="TematicaAtaud"/>
            <p:cNvPicPr/>
            <p:nvPr/>
          </p:nvPicPr>
          <p:blipFill>
            <a:blip r:embed="rId3"/>
            <a:srcRect l="1523" t="1685" r="0" b="0"/>
            <a:stretch/>
          </p:blipFill>
          <p:spPr>
            <a:xfrm>
              <a:off x="5081760" y="3467160"/>
              <a:ext cx="183816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19"/>
            <p:cNvSpPr/>
            <p:nvPr/>
          </p:nvSpPr>
          <p:spPr>
            <a:xfrm>
              <a:off x="5523840" y="376380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muer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5"/>
          <p:cNvGrpSpPr/>
          <p:nvPr/>
        </p:nvGrpSpPr>
        <p:grpSpPr>
          <a:xfrm>
            <a:off x="6997680" y="3433680"/>
            <a:ext cx="1160280" cy="1495440"/>
            <a:chOff x="6997680" y="3433680"/>
            <a:chExt cx="1160280" cy="1495440"/>
          </a:xfrm>
        </p:grpSpPr>
        <p:pic>
          <p:nvPicPr>
            <p:cNvPr id="338" name="Picture 13" descr="TematicaVida"/>
            <p:cNvPicPr/>
            <p:nvPr/>
          </p:nvPicPr>
          <p:blipFill>
            <a:blip r:embed="rId4"/>
            <a:stretch/>
          </p:blipFill>
          <p:spPr>
            <a:xfrm>
              <a:off x="6997680" y="3446640"/>
              <a:ext cx="1160280" cy="1482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339" name="Text Box 20"/>
            <p:cNvSpPr/>
            <p:nvPr/>
          </p:nvSpPr>
          <p:spPr>
            <a:xfrm>
              <a:off x="7425360" y="34336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vi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21"/>
          <p:cNvSpPr/>
          <p:nvPr/>
        </p:nvSpPr>
        <p:spPr>
          <a:xfrm>
            <a:off x="1454400" y="1643040"/>
            <a:ext cx="16498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Muy var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2"/>
          <p:cNvSpPr/>
          <p:nvPr/>
        </p:nvSpPr>
        <p:spPr>
          <a:xfrm>
            <a:off x="4637160" y="2193840"/>
            <a:ext cx="4016160" cy="1008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Hay que tener opiniones formadas sobre cualquier tema impor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5" name="camera.wav"/>
      </p:stSnd>
    </p:sndAc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2 Marcador de número de diapositiva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75B5-868E-48A3-98D2-A0D9EEDDED02}" type="slidenum">
              <a:rPr b="1" lang="es-ES" sz="1200" spc="-1" strike="noStrike">
                <a:solidFill>
                  <a:srgbClr val="5f5f5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1393920" y="1639800"/>
            <a:ext cx="3149640" cy="249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cc"/>
                </a:solidFill>
                <a:latin typeface="Arial"/>
              </a:rPr>
              <a:t>¿Cuál es la extensión ideal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88960" y="1714680"/>
            <a:ext cx="2986200" cy="459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Verdana"/>
                <a:ea typeface="Arial"/>
              </a:rPr>
              <a:t>Res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1488960" y="2173320"/>
            <a:ext cx="2990880" cy="4597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Verdana"/>
                <a:ea typeface="Arial"/>
              </a:rPr>
              <a:t>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488960" y="2825640"/>
            <a:ext cx="298944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Verdana"/>
                <a:ea typeface="Arial"/>
              </a:rPr>
              <a:t>Estru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1570320" y="3606840"/>
            <a:ext cx="2824920" cy="45972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Verdana"/>
                <a:ea typeface="Arial"/>
              </a:rPr>
              <a:t>Comentario cr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2"/>
          <p:cNvSpPr/>
          <p:nvPr/>
        </p:nvSpPr>
        <p:spPr>
          <a:xfrm flipH="1">
            <a:off x="4865760" y="2728800"/>
            <a:ext cx="3759120" cy="709560"/>
          </a:xfrm>
          <a:custGeom>
            <a:avLst/>
            <a:gdLst>
              <a:gd name="textAreaLeft" fmla="*/ 360 w 3759120"/>
              <a:gd name="textAreaRight" fmla="*/ 3759840 w 37591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Verdana"/>
                <a:ea typeface="Arial"/>
              </a:rPr>
              <a:t>Concisa pero no</a:t>
            </a:r>
            <a:br>
              <a:rPr sz="2000"/>
            </a:br>
            <a:r>
              <a:rPr b="0" lang="es-ES" sz="2000" spc="-1" strike="noStrike">
                <a:solidFill>
                  <a:srgbClr val="f8f8f8"/>
                </a:solidFill>
                <a:latin typeface="Verdana"/>
                <a:ea typeface="Arial"/>
              </a:rPr>
              <a:t>necesariamente br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3"/>
          <p:cNvSpPr/>
          <p:nvPr/>
        </p:nvSpPr>
        <p:spPr>
          <a:xfrm flipH="1">
            <a:off x="4862520" y="3638520"/>
            <a:ext cx="3759120" cy="449280"/>
          </a:xfrm>
          <a:custGeom>
            <a:avLst/>
            <a:gdLst>
              <a:gd name="textAreaLeft" fmla="*/ 360 w 3759120"/>
              <a:gd name="textAreaRight" fmla="*/ 3759840 w 37591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Verdana"/>
                <a:ea typeface="Arial"/>
              </a:rPr>
              <a:t>Ni breve ni con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4"/>
          <p:cNvSpPr/>
          <p:nvPr/>
        </p:nvSpPr>
        <p:spPr>
          <a:xfrm flipH="1">
            <a:off x="4840200" y="1976400"/>
            <a:ext cx="3759120" cy="449280"/>
          </a:xfrm>
          <a:custGeom>
            <a:avLst/>
            <a:gdLst>
              <a:gd name="textAreaLeft" fmla="*/ 360 w 3759120"/>
              <a:gd name="textAreaRight" fmla="*/ 3759840 w 37591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Verdana"/>
                <a:ea typeface="Arial"/>
              </a:rPr>
              <a:t>Breves y conci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4211640" y="4869000"/>
            <a:ext cx="4559400" cy="703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Verdana"/>
                <a:ea typeface="Arial"/>
              </a:rPr>
              <a:t>Evita especialmente los esquemas y las contestaciones telegrá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9"/>
          <p:cNvSpPr/>
          <p:nvPr/>
        </p:nvSpPr>
        <p:spPr>
          <a:xfrm flipH="1" rot="1146000">
            <a:off x="964440" y="4795920"/>
            <a:ext cx="2856960" cy="64980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f5f5f"/>
                </a:solidFill>
                <a:latin typeface="Verdana"/>
                <a:ea typeface="Arial"/>
              </a:rPr>
              <a:t>500 pala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1" name="camera.wav"/>
      </p:stSnd>
    </p:sndAc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1" dur="25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2" dur="25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3" dur="25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5" dur="250" autoRev="1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6" dur="250" autoRev="1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7" dur="250" autoRev="1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92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3" dur="192" fill="hold"/>
                                        <p:tgtEl>
                                          <p:spTgt spid="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5" dur="192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7" dur="192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cc"/>
                </a:solidFill>
                <a:latin typeface="Arial"/>
              </a:rPr>
              <a:t>Errores que deben evitar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Volver a contar, de forma más extensa, el resumen del tex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ntender crítica como cens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o justificar nuestras impresiones de agrado o rechaz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acer un comentario literario, lingüístico o pragmá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provechar el texto para desarrollar un tema de litera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4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9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2 Marcador de número de diapositiva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4B0F-2291-4360-8424-81A99B135B79}" type="slidenum">
              <a:rPr b="1" lang="es-ES" sz="1200" spc="-1" strike="noStrike">
                <a:solidFill>
                  <a:srgbClr val="5f5f5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Evitar posturas extre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1442880" y="1709640"/>
            <a:ext cx="2671920" cy="3988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Posturas extr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1438200" y="2212920"/>
            <a:ext cx="2676600" cy="16185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n algunos comentarios se nos pide nuestra opinión sobre un tema controvert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182520" y="5686560"/>
            <a:ext cx="8761320" cy="703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s recomendable enfrentar el asunto desde varios puntos de vista, considerar pros y contras, independientemente de nuestra opin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173160" y="4067280"/>
            <a:ext cx="38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5f5f5f"/>
                </a:solidFill>
                <a:latin typeface="Verdana"/>
                <a:ea typeface="Arial"/>
              </a:rPr>
              <a:t>Los inmigrantes vienen a quitarnos el trabajo a nosotros. Habría que echarlos a todos a su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4305240" y="1601640"/>
            <a:ext cx="441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5f5f5f"/>
                </a:solidFill>
                <a:latin typeface="Verdana"/>
                <a:ea typeface="Arial"/>
              </a:rPr>
              <a:t>La madre debería poder acabar con el feto mientras estuviera en su barriga, puesto que es su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22"/>
          <p:cNvGrpSpPr/>
          <p:nvPr/>
        </p:nvGrpSpPr>
        <p:grpSpPr>
          <a:xfrm>
            <a:off x="4309920" y="2716200"/>
            <a:ext cx="2876760" cy="2146320"/>
            <a:chOff x="4309920" y="2716200"/>
            <a:chExt cx="2876760" cy="2146320"/>
          </a:xfrm>
        </p:grpSpPr>
        <p:pic>
          <p:nvPicPr>
            <p:cNvPr id="364" name="Picture 15" descr="Ecografía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4309920" y="2716200"/>
              <a:ext cx="2876760" cy="214632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365" name="Text Box 18"/>
            <p:cNvSpPr/>
            <p:nvPr/>
          </p:nvSpPr>
          <p:spPr>
            <a:xfrm>
              <a:off x="5669640" y="30510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bor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23"/>
          <p:cNvGrpSpPr/>
          <p:nvPr/>
        </p:nvGrpSpPr>
        <p:grpSpPr>
          <a:xfrm>
            <a:off x="4407840" y="4368960"/>
            <a:ext cx="2234160" cy="1203120"/>
            <a:chOff x="4407840" y="4368960"/>
            <a:chExt cx="2234160" cy="1203120"/>
          </a:xfrm>
        </p:grpSpPr>
        <p:pic>
          <p:nvPicPr>
            <p:cNvPr id="367" name="Picture 7" descr="Armasetarras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4462560" y="4440240"/>
              <a:ext cx="2179440" cy="113184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368" name="Text Box 20"/>
            <p:cNvSpPr/>
            <p:nvPr/>
          </p:nvSpPr>
          <p:spPr>
            <a:xfrm>
              <a:off x="4407840" y="4368960"/>
              <a:ext cx="151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rrorism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5"/>
          <p:cNvGrpSpPr/>
          <p:nvPr/>
        </p:nvGrpSpPr>
        <p:grpSpPr>
          <a:xfrm>
            <a:off x="6091200" y="3772080"/>
            <a:ext cx="2852640" cy="1660320"/>
            <a:chOff x="6091200" y="3772080"/>
            <a:chExt cx="2852640" cy="1660320"/>
          </a:xfrm>
        </p:grpSpPr>
        <p:pic>
          <p:nvPicPr>
            <p:cNvPr id="370" name="Picture 8" descr="KuKluxKlan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6091200" y="3772080"/>
              <a:ext cx="2852640" cy="16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21"/>
            <p:cNvSpPr/>
            <p:nvPr/>
          </p:nvSpPr>
          <p:spPr>
            <a:xfrm>
              <a:off x="7182000" y="502128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Racism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24"/>
          <p:cNvGrpSpPr/>
          <p:nvPr/>
        </p:nvGrpSpPr>
        <p:grpSpPr>
          <a:xfrm>
            <a:off x="6661080" y="2808360"/>
            <a:ext cx="1817640" cy="1155600"/>
            <a:chOff x="6661080" y="2808360"/>
            <a:chExt cx="1817640" cy="1155600"/>
          </a:xfrm>
        </p:grpSpPr>
        <p:pic>
          <p:nvPicPr>
            <p:cNvPr id="373" name="Picture 17" descr="Patera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6661080" y="2808360"/>
              <a:ext cx="1817640" cy="115560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374" name="Text Box 19"/>
            <p:cNvSpPr/>
            <p:nvPr/>
          </p:nvSpPr>
          <p:spPr>
            <a:xfrm>
              <a:off x="6736680" y="3538440"/>
              <a:ext cx="163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Inmig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Freeform 27"/>
          <p:cNvSpPr/>
          <p:nvPr/>
        </p:nvSpPr>
        <p:spPr>
          <a:xfrm>
            <a:off x="4441680" y="1611360"/>
            <a:ext cx="4179960" cy="942840"/>
          </a:xfrm>
          <a:prstGeom prst="pie">
            <a:avLst/>
          </a:pr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8"/>
          <p:cNvSpPr/>
          <p:nvPr/>
        </p:nvSpPr>
        <p:spPr>
          <a:xfrm>
            <a:off x="4253040" y="1582560"/>
            <a:ext cx="4425840" cy="884520"/>
          </a:xfrm>
          <a:prstGeom prst="pie">
            <a:avLst/>
          </a:pr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9"/>
          <p:cNvSpPr/>
          <p:nvPr/>
        </p:nvSpPr>
        <p:spPr>
          <a:xfrm>
            <a:off x="173160" y="4164120"/>
            <a:ext cx="3641760" cy="1217520"/>
          </a:xfrm>
          <a:prstGeom prst="pie">
            <a:avLst/>
          </a:pr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0"/>
          <p:cNvSpPr/>
          <p:nvPr/>
        </p:nvSpPr>
        <p:spPr>
          <a:xfrm>
            <a:off x="360360" y="4135320"/>
            <a:ext cx="3657600" cy="1189080"/>
          </a:xfrm>
          <a:prstGeom prst="pie">
            <a:avLst/>
          </a:pr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5" name="camera.wav"/>
      </p:stSnd>
    </p:sndAc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8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200"/>
                            </p:stCondLst>
                            <p:childTnLst>
                              <p:par>
                                <p:cTn id="97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cc"/>
                </a:solidFill>
                <a:latin typeface="Arial"/>
              </a:rPr>
              <a:t>¿Hay un esquema para hacer el comentario crítico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Text Box 25"/>
          <p:cNvSpPr/>
          <p:nvPr/>
        </p:nvSpPr>
        <p:spPr>
          <a:xfrm>
            <a:off x="1042920" y="1773360"/>
            <a:ext cx="7229520" cy="7340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  <a:ea typeface="Arial"/>
              </a:rPr>
              <a:t>Muchos alumnos se sienten más cómodos y seguros obedeciendo directrices prefijadas, pe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4"/>
          <p:cNvSpPr/>
          <p:nvPr/>
        </p:nvSpPr>
        <p:spPr>
          <a:xfrm>
            <a:off x="1042920" y="2421000"/>
            <a:ext cx="7230960" cy="7340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  <a:ea typeface="Arial"/>
              </a:rPr>
              <a:t>seguir un esquema fijo para elaborar un comentario es casi contradictorio con el adjetivo </a:t>
            </a:r>
            <a:r>
              <a:rPr b="0" i="1" lang="es-ES" sz="2100" spc="-1" strike="noStrike">
                <a:solidFill>
                  <a:srgbClr val="ffffff"/>
                </a:solidFill>
                <a:latin typeface="Verdana"/>
                <a:ea typeface="Arial"/>
              </a:rPr>
              <a:t>crít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7"/>
          <p:cNvSpPr/>
          <p:nvPr/>
        </p:nvSpPr>
        <p:spPr>
          <a:xfrm>
            <a:off x="1042920" y="4005360"/>
            <a:ext cx="7229520" cy="1191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No hay que permitir que la creatividad y la capacidad crítica propias se vean limitadas por un esquema de comentario aj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2 Marcador de número de diapositiva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514C-DB2C-4C8D-A8FE-170799C8D860}" type="slidenum">
              <a:rPr b="1" lang="es-ES" sz="1200" spc="-1" strike="noStrike">
                <a:solidFill>
                  <a:srgbClr val="5f5f5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cc"/>
                </a:solidFill>
                <a:latin typeface="Arial"/>
              </a:rPr>
              <a:t>A lo mejor te puede ayudar un posible esquema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5" name="AutoShape 7"/>
          <p:cNvSpPr/>
          <p:nvPr/>
        </p:nvSpPr>
        <p:spPr>
          <a:xfrm>
            <a:off x="900000" y="1557360"/>
            <a:ext cx="7344000" cy="460836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efe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) 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ntroducción: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actualidad del tema, intención del autor (tipo de texto, pero solo una rápida referencia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)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mentario personal del tema y los subtemas del 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ienes que </a:t>
            </a:r>
            <a:r>
              <a:rPr b="0" i="1" lang="es-ES" sz="1800" spc="-1" strike="noStrike">
                <a:solidFill>
                  <a:srgbClr val="cc0000"/>
                </a:solidFill>
                <a:latin typeface="Times New Roman"/>
                <a:ea typeface="Arial"/>
              </a:rPr>
              <a:t>centrarse en el tema principal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y </a:t>
            </a:r>
            <a:r>
              <a:rPr b="0" i="1" lang="es-ES" sz="1800" spc="-1" strike="noStrike">
                <a:solidFill>
                  <a:srgbClr val="cc0000"/>
                </a:solidFill>
                <a:latin typeface="Times New Roman"/>
                <a:ea typeface="Arial"/>
              </a:rPr>
              <a:t>redactar tu visión personal del mismo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(si estás de acuerdo o no, apoyándote en conocimientos, experiencias, noticias, citas de autores, obras, teorías…). Es recomendable citar enunciados textuales del texto pro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petir lo mismo con otros temas secundarios que consideres de interés. Este apartado es opt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)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nclusiones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 recopilación de las ideas más importantes, distanciamiento del texto y consideración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31"/>
          <p:cNvSpPr/>
          <p:nvPr/>
        </p:nvSpPr>
        <p:spPr>
          <a:xfrm>
            <a:off x="539640" y="4292640"/>
            <a:ext cx="1079640" cy="504720"/>
          </a:xfrm>
          <a:prstGeom prst="rightArrow">
            <a:avLst>
              <a:gd name="adj1" fmla="val 50000"/>
              <a:gd name="adj2" fmla="val 53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2" name="camera.wav"/>
      </p:stSnd>
    </p:sndAc>
  </p:transition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0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Trabajo realizado por María Jesús Alcántara Jiménez, profesora de Lengua y Literatura del I.E.S. “La Fuensanta”</a:t>
            </a:r>
            <a:br>
              <a:rPr sz="3200"/>
            </a:b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 Curso 2009-2010</a:t>
            </a:r>
            <a:br>
              <a:rPr sz="3800"/>
            </a:br>
            <a:br>
              <a:rPr sz="38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990033"/>
                </a:solidFill>
                <a:latin typeface="Arial"/>
              </a:rPr>
              <a:t>                             </a:t>
            </a:r>
            <a:r>
              <a:rPr b="0" lang="es-ES" sz="2800" spc="-1" strike="noStrike">
                <a:solidFill>
                  <a:srgbClr val="990033"/>
                </a:solidFill>
                <a:latin typeface="Arial"/>
              </a:rPr>
              <a:t>Fuente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990033"/>
                </a:solidFill>
                <a:latin typeface="Arial"/>
              </a:rPr>
              <a:t>1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cumento oficial sobre las direct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nerales para las Pruebas de acceso a la uni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2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puntes de Bachillerato de Dª Rosa Muñoz Aparicio, profeso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engua y Literatura del I.E.S. “La Fuensanta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ágina de “Apuntes de Lengua” de Alfonso San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3300"/>
                </a:solidFill>
                <a:latin typeface="Arial"/>
              </a:rPr>
              <a:t>Veamos los diversos apartados del comentario crítico con más detenimiento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02920" y="299736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1,5 pu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Primera pregunta del examen de Sel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1979640" y="1413000"/>
            <a:ext cx="5257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Organización de las ideas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o estructura interna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3300"/>
                </a:solidFill>
                <a:latin typeface="Arial"/>
              </a:rPr>
              <a:t>¿Qué 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0000cc"/>
                </a:solidFill>
                <a:latin typeface="Arial"/>
              </a:rPr>
              <a:t>Es la enunciación de las ideas fundamentales y secundarias del texto vertebradas,  jerarquizadas y representadas gráfica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3300"/>
                </a:solidFill>
                <a:latin typeface="Arial"/>
              </a:rPr>
              <a:t>Aspectos que debemos tener en cuen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Primero hay que leer detenidamente  y de forma comprensiva el texto cuantas veces sea necesario (consultar diccionari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Debemos subrayar las palabras clave y las ideas principa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7002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cc"/>
                </a:solidFill>
                <a:latin typeface="Arial"/>
              </a:rPr>
              <a:t>No subrayar muc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7002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cc"/>
                </a:solidFill>
                <a:latin typeface="Arial"/>
              </a:rPr>
              <a:t>No subrayar lo secundario (fechas, ejempl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7002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cc"/>
                </a:solidFill>
                <a:latin typeface="Arial"/>
              </a:rPr>
              <a:t>El subrayado debe mantener la coherencia del 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Arial"/>
              </a:rPr>
              <a:t>Hay que tener en cuenta la estructura externa del texto (apartados, párrafos…) pues en un texto bien construido la estructura externa y la organización de las ideas (estructura interna) están íntimamente relacionadas. Los conectores servirán de apoyo para la realización del esquema de la estructu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Arial"/>
              </a:rPr>
              <a:t>Hay que enunciar  las ideas de forma jerarquizada, no lineal  (deben de agruparse las que contengan el mismo concept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Arial"/>
              </a:rPr>
              <a:t>Debe dividirse el texto en pocas partes: dos o tres y cada una podrá subdividirse a su vez  (mantener la estructura de lo general a lo particular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Arial"/>
              </a:rPr>
              <a:t>Deben utilizarse los  sangrados para representar la jerarquía de ide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Arial"/>
              </a:rPr>
              <a:t>La enunciación de las ideas tiene que ser precisa y clara  mediante una frase corta, preferiblemente sin verbo, como si fuera el tema de cada apart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cc"/>
              </a:buClr>
              <a:buSzPct val="6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Puede explicarse cada apartado , pero muy brevemente y solo si hay necesidad, porque si no la explicación de la organización de las ideas se convertiría prácticamente en un resumen.</a:t>
            </a:r>
            <a:br>
              <a:rPr sz="2400"/>
            </a:b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cc"/>
              </a:buClr>
              <a:buSzPct val="6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Deben especificarse las líneas o los versos que ocupa cada parte del 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cc"/>
              </a:buClr>
              <a:buSzPct val="6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A veces, se puede distinguir con claridad un tipo de estructura determinada (inductiva, deductiva, encuadrada…) y en ese caso debemos comentarla. Recordemos las más frecu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SE ANTONIO</cp:lastModifiedBy>
  <dcterms:modified xsi:type="dcterms:W3CDTF">2009-11-03T19:40:17Z</dcterms:modified>
  <cp:revision>36</cp:revision>
  <dc:subject/>
  <dc:title>PowerPoint Presentation</dc:title>
</cp:coreProperties>
</file>